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12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072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61168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485280" y="900000"/>
            <a:ext cx="456588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61168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BBE2-52F7-45F8-8166-2D22731AC1C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485640" y="9000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65D0-1448-4AAF-ACE1-89735B2A0EC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9278-58C0-43B1-8F2F-F1E325D60BE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DDA2-1D11-4A6E-8AA2-845B75B3768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90C8-E184-4455-977F-47769B86FF3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7E6B-4FC9-4A2F-989B-E472F7B6CA6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6E0B-495C-4CA2-9796-E19ADCA78AE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B4C9-4CD1-4903-9A32-F123E02B164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B2C2-553F-434D-B786-A20477CCF05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4D27-7A24-4366-869C-5BB78E0A818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3015-F05D-43A9-91A7-3ED8B2AF4F6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9A85-ABEB-45F2-B502-D5C53E94D9E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F76F-0BDA-4337-9901-0DD7CA4F11B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AA59-5077-4FA1-95A7-59254934B65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F10F-6E95-4475-ABD9-2DDF26FD81A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7C3D-1E98-4E31-BBB6-195D8D8E343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5A2-07A0-4E51-807E-DD893AE5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F58-9FFB-45A7-ABFF-18391E97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B73-5D80-4B41-B71F-3FF5ACDD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B2C-0A51-41E2-A044-41A31FB8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50CD-0192-4DDD-A25D-0347A504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97CC-B7A2-468C-86D7-C16F5A24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8BD5-47F6-47E0-90DC-4BCB54C3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5C89-29DF-4526-8441-6FCDF003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433D-31B3-4CED-AEC9-EA1B5F20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93E4-F9CA-4A74-989E-017B4CB8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744B-1B44-46FC-B4D5-D6255EB0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DAB-3C15-4682-A5B8-5125E448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4C3F-C4CD-4968-9802-375D3B38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BF43-281F-49F7-B168-3F7A841B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B504-FCAF-4102-B25C-655BE84E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8646-6F9C-47BD-92FE-D835F825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44C8-C65B-4107-ABAE-FA67E56E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13D5-DCCC-4217-9794-A4CFD20D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EBB0-36BF-40E9-B06C-ADC5926C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C39-397C-4C0F-AC40-DC28EE89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70F-91C0-4F76-8CC5-FC6A49A5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2F8-FAA4-4C5E-A771-9DD01636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D2A0-5FD6-498D-A7F1-4C3F7607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5E7-5FE0-48B3-BA5E-D62AE596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9264-8AE2-4624-969D-B651A7D642A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E987-A36A-431D-B09C-62300DCC1228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rdenman@thetourismcompany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n 4" descr="logo_unwto_ppt.jpg"/>
          <p:cNvPicPr/>
          <p:nvPr/>
        </p:nvPicPr>
        <p:blipFill>
          <a:blip r:embed="rId1"/>
          <a:stretch/>
        </p:blipFill>
        <p:spPr>
          <a:xfrm>
            <a:off x="517680" y="0"/>
            <a:ext cx="987120" cy="1395360"/>
          </a:xfrm>
          <a:prstGeom prst="rect">
            <a:avLst/>
          </a:prstGeom>
          <a:ln w="0">
            <a:noFill/>
          </a:ln>
        </p:spPr>
      </p:pic>
      <p:sp>
        <p:nvSpPr>
          <p:cNvPr id="91" name="Conector recto 4"/>
          <p:cNvSpPr/>
          <p:nvPr/>
        </p:nvSpPr>
        <p:spPr>
          <a:xfrm>
            <a:off x="4089240" y="0"/>
            <a:ext cx="0" cy="685800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7"/>
          <p:cNvSpPr/>
          <p:nvPr/>
        </p:nvSpPr>
        <p:spPr>
          <a:xfrm flipH="1">
            <a:off x="517680" y="2540160"/>
            <a:ext cx="8626320" cy="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ector recto 11"/>
          <p:cNvSpPr/>
          <p:nvPr/>
        </p:nvSpPr>
        <p:spPr>
          <a:xfrm>
            <a:off x="6654960" y="0"/>
            <a:ext cx="0" cy="254016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ángulo 12"/>
          <p:cNvSpPr/>
          <p:nvPr/>
        </p:nvSpPr>
        <p:spPr>
          <a:xfrm>
            <a:off x="517680" y="2540160"/>
            <a:ext cx="3571560" cy="4317840"/>
          </a:xfrm>
          <a:prstGeom prst="rect">
            <a:avLst/>
          </a:prstGeom>
          <a:solidFill>
            <a:srgbClr val="c8c9e8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uadroTexto 3"/>
          <p:cNvSpPr/>
          <p:nvPr/>
        </p:nvSpPr>
        <p:spPr>
          <a:xfrm>
            <a:off x="552600" y="2784600"/>
            <a:ext cx="355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REGIONAL COAST ST G&amp;M SEMIN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Ada, Gha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October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4 CuadroTexto"/>
          <p:cNvSpPr/>
          <p:nvPr/>
        </p:nvSpPr>
        <p:spPr>
          <a:xfrm>
            <a:off x="4211640" y="2708280"/>
            <a:ext cx="457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fluencing Coastal Tourism Development and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416320" cy="181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P7140478"/>
          <p:cNvPicPr/>
          <p:nvPr/>
        </p:nvPicPr>
        <p:blipFill>
          <a:blip r:embed="rId3"/>
          <a:stretch/>
        </p:blipFill>
        <p:spPr>
          <a:xfrm>
            <a:off x="4235400" y="468360"/>
            <a:ext cx="2336760" cy="182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9" name="Content Placeholder 3" descr=""/>
          <p:cNvPicPr/>
          <p:nvPr/>
        </p:nvPicPr>
        <p:blipFill>
          <a:blip r:embed="rId4"/>
          <a:stretch/>
        </p:blipFill>
        <p:spPr>
          <a:xfrm>
            <a:off x="6726240" y="517680"/>
            <a:ext cx="237024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Exert influence on development through advice, assistance, incentives and agreement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vide positive approaches and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courage early dialo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k with Investment Promotion A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ider targeted financial incen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concessions, agreements etc. where applic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operation of coastal tourism enterpris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2" name="Picture 5" descr="IMG_8794"/>
          <p:cNvPicPr/>
          <p:nvPr/>
        </p:nvPicPr>
        <p:blipFill>
          <a:blip r:embed="rId1"/>
          <a:stretch/>
        </p:blipFill>
        <p:spPr>
          <a:xfrm>
            <a:off x="1636560" y="119700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828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operation of coastal tourism enterpris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Strengthen the reach and potency of inspection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spections by Environment Agencies, Tourist Authorities and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sources for inspection are stretc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portunities to coordinate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ublicise/promote results of insp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nitor state of external environment as well as internal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828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operation of coastal tourism enterpris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6" name="Picture 5" descr="IMG_8704"/>
          <p:cNvPicPr/>
          <p:nvPr/>
        </p:nvPicPr>
        <p:blipFill>
          <a:blip r:embed="rId1"/>
          <a:stretch/>
        </p:blipFill>
        <p:spPr>
          <a:xfrm>
            <a:off x="1636560" y="119700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476360" y="587700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cean Bay Hotel, Cap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828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operation of coastal tourism enterpris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Stimulate and assist improved environmental (sustainability) management by tourism enterpri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k with representative 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larify requirements – improv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vide and promote EMS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engthen voluntary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courage/support/promote certification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courage use of voluntary c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cognise economic sustainability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ichard Den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denman@thetourismcompany.co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Topics covered in this session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fluencing Coastal Tourism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fluencing the Operation of Coastal Tourism Enterpri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portant links with the previous se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urism Master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CZM process and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cal destination management plan / tourism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nd use planning – for coast and local dest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Strengthen effective application of EIAs for coastal tourism develop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iversal tool, used in all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cern about effectiv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ed to focus 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larity and consistency on what needed for tour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propriate treatment of small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bjectivity and expert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rengthening local consul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taking EIAs earlier in the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eadth of content – Strategic Environmental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nitoring and enforc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4932360" y="1197000"/>
            <a:ext cx="318132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2"/>
          <a:stretch/>
        </p:blipFill>
        <p:spPr>
          <a:xfrm>
            <a:off x="984240" y="1197000"/>
            <a:ext cx="3149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Review and improve the process of handling and approving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ny steps needed to acquire lic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ng delays can lead to circum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ed better + quicker scrutiny and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portant to make basic requirements clearer at the out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2" name="Picture 8" descr="DSCF0473"/>
          <p:cNvPicPr/>
          <p:nvPr/>
        </p:nvPicPr>
        <p:blipFill>
          <a:blip r:embed="rId1"/>
          <a:stretch/>
        </p:blipFill>
        <p:spPr>
          <a:xfrm>
            <a:off x="1636560" y="119700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Provide clear guidelines on coastal tourism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formation is a weakness and an opport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written guide would be helpful, to cov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ourism opportunities, reflecting any pl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eps to fol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gulations and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actical guidance on good practice – location, design, materials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lating to local commun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ould be used by all agencies handling coastal tourism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197000"/>
            <a:ext cx="740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961920" y="1197000"/>
            <a:ext cx="319248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2"/>
          <a:srcRect l="21662" t="28621" r="18197" b="15679"/>
          <a:stretch/>
        </p:blipFill>
        <p:spPr>
          <a:xfrm>
            <a:off x="5580000" y="1989000"/>
            <a:ext cx="21607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17:39Z</dcterms:created>
  <dc:creator>UNWTO</dc:creator>
  <dc:description/>
  <dc:language>en-US</dc:language>
  <cp:lastModifiedBy>Richard Denman</cp:lastModifiedBy>
  <cp:lastPrinted>2013-10-19T18:06:53Z</cp:lastPrinted>
  <dcterms:modified xsi:type="dcterms:W3CDTF">2013-10-19T18:09:14Z</dcterms:modified>
  <cp:revision>47</cp:revision>
  <dc:subject/>
  <dc:title>PowerPoint Presentation</dc:title>
</cp:coreProperties>
</file>